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A6C-38A1-42B3-A0C7-4A959434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A0BA-3213-4C53-8D43-E834E83D9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1BA8-20F6-4B81-8405-B64A14694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0A49-0640-4D7C-9E23-A77FF6D55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3BB9-4F39-4EA2-9124-ED39754E7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1058-3730-4303-AD15-475E7213F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3201-4E46-40F9-AB2C-49670A3A4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96A9-B83B-4C03-BBED-EAE1D0A1B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D731-EEF8-464C-B9CE-B0A944D71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133D-741B-4943-A37C-8A0D521A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0A5D-36DA-4BAA-9A42-5C9B000B5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8A3B-EBA9-4FF7-8841-1FED09C26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11BA-889E-4ABB-8971-7BA9DFF46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EFD8-46D8-407C-9DD9-666FB6D0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A6BF-68DE-47B5-8669-5D8F3743886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86A9-D601-47FB-8389-D08CD078F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sunt disponibile pe Curriculum Resource C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-ul Resource, Copyright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88EE-FBCB-44F2-8A16-4F5A8B407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FE2E-760E-47E0-91B4-0299A150B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381B-7992-4F0C-8F78-C7AEEAF144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8C98-F76E-4E79-97AC-A76548FD39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4E94-80C3-41F3-A8FF-394995F88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9AA3-2CB9-4235-B61A-764A6D989F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6F46-8915-43E0-A82C-E654ED2F1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C582-3B4A-4579-A27C-E146FAFB65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re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Aproape orice creat privat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 dupa  este protejat,indiferent da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are o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ii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re sau n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782E-3511-44FC-9E06-43D9D3D05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F59A-A0D3-41A1-8B11-7FD6DD124A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ale US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8417-719F-4CCE-ABAB-3165E207A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S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1924-1BC3-42C5-B136-27F3685380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0619-907B-4784-8402-B20EB5EE1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hidul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oferi supor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i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 : - nu este un document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e doar o interpretare a legi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 aplica doar educatorilor care produc multi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6B88-0883-44BF-B23F-D674E14EE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studen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educatorii au ghiduri sepa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D0B7-1EE4-44D3-9A66-B26F81BBB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t educat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ACB1-840E-47FB-83B3-E0F7E085D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5760" y="1371600"/>
          <a:ext cx="8237520" cy="45417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1450-E9E7-460A-8438-BBEAE2E7F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Carmen Negrea</cp:lastModifiedBy>
  <dcterms:modified xsi:type="dcterms:W3CDTF">2007-09-04T10:05:50Z</dcterms:modified>
  <cp:revision>309</cp:revision>
  <dc:subject/>
  <dc:title>Copyright Chaos</dc:title>
</cp:coreProperties>
</file>